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C66F-9A26-49B1-BB17-51D7C181B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2FFF-9897-4219-AA05-C55E7D94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7C74-A4B7-4558-AC28-2A5386B2C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325B-4D7E-4829-B279-E041035D8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56C2-1097-4879-AA97-00F45E2B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C391-D14A-4C1B-A814-C845CBD7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3FF8-781C-4B23-BD9B-50CD8DC4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E47B-FFEF-4CDB-916D-5E0C054D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CF51-6468-4AA5-8B72-70ED6C7E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E544-80FB-4856-84D9-AEFBAD19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B661-E2C0-469B-9AA8-B87D3476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0DB5-A965-495B-B176-A63B492B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6D3F352-726D-4553-8ADB-8384D3A118B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pe, hope is alive i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ll the world to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You are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ve, love changes every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love has rescued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I am Y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vermore, for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Yours 3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took hold of m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my love is Yours 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2920" y="1528560"/>
            <a:ext cx="9070920" cy="5468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hat I have is Y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soul will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ver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ver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ome alive in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soul will s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ver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ver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757160"/>
            <a:ext cx="9070920" cy="501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y, It is my joy to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ring you an off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You are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ce, Your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grace is covering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d me and set me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I am Y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took hold of m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my love is Yours 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528560"/>
            <a:ext cx="9070920" cy="5468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hat I have is Y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soul will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ver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ver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ome alive in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soul will s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ver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ver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vermore, for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Yours 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singing, we are da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coming a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dancing, we are sh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et our hearts on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2920" y="1544400"/>
            <a:ext cx="9070920" cy="54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hat I have is Y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soul will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ver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ver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ome alive in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soul will s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ver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ver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8:32:32Z</dcterms:created>
  <dc:creator/>
  <dc:description/>
  <dc:language>en-US</dc:language>
  <cp:lastModifiedBy/>
  <dcterms:modified xsi:type="dcterms:W3CDTF">2015-06-25T06:32:57Z</dcterms:modified>
  <cp:revision>3</cp:revision>
  <dc:subject/>
  <dc:title/>
</cp:coreProperties>
</file>